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E9C2-0204-429C-91FD-7D692254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98C7-2678-44C7-8282-0B7A4E3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D0D8-D55A-446C-9DC9-59FCA656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337A-DB77-4742-901C-31788813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20C-44C4-483D-BDBF-A9A6F2C0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46A0-A35B-4C91-A386-F3D1503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354-D0A6-490D-B65B-3C292B70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844-1155-4E75-9EB2-B088AE3C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6D4-7B0F-4656-A37B-20EF428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1FCE-1487-41BB-BDB1-17FFAAA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CF1F-FE8A-45A5-A4AF-23F3567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B7AF-B599-4F41-8739-25F4A98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CF0-1296-4E03-9577-18B43A17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338-7033-44B6-B780-F8E070F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E5A1-7AEA-40A8-A827-D8C6993A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6C14-07DA-4C21-B1D1-C17C06EF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834-997A-4027-8C4B-566485A2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0047-F09B-44DC-8E96-7C4F4B5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1E6B-F9D9-4D72-A776-5FAD5AE0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1ED9-E512-490B-B801-6BE50B91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80BA-9A0F-4279-9368-099640F0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C6AB-5EB6-434E-99D7-7D0E0CCE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6B17-64C8-402A-B08B-54D1C717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C215-BEAB-46F7-8447-F3E74CC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C7D7-1B27-402B-8CEC-2063EB2019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A626-6188-4E8B-99E8-06536201D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ystallake.org/images/photos/Collen_vintag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unsite.utk.edu./civil-war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historyplace.com/civilwar/" TargetMode="External"/><Relationship Id="rId5" Type="http://schemas.openxmlformats.org/officeDocument/2006/relationships/hyperlink" Target="http://www.historyplace.com/civilwar/" TargetMode="External"/><Relationship Id="rId6" Type="http://schemas.openxmlformats.org/officeDocument/2006/relationships/hyperlink" Target="http://www.historyplace.com/civilwar/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festyle’s of the Civil Wa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ldier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37920" y="5714640"/>
            <a:ext cx="40388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Drake Mummert and All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rret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514600"/>
            <a:ext cx="17496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ygiene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s were wet, muddy, and c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helters were crude and very unsan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melled from garbage and latr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were killed to provide troops with mea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camp and soldiers were very di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went weeks without showering or even washing their clot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and housing eventually became infested with lice and fl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kness developed from poor hygiene included chronic diarrhea or other intestinal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 carrying insects caused many disorders by contaminating water and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ack then didn’t know that germs caused dieses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toring techniques were bad and dangerous (they stored all detached limbs in one big pi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y Point’s to Remem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food selection’s, their housing life, bathing habits, and how they were trained for batt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important because it gives us a background on what they sacrificed for our country and the hardships they had to en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urce's We U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sunsite.utk.edu./civil-war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ww.historyplace.com/civilwar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’s from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learning about the way civil war soldiers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as their diet, hygiene, lodging, training, and their appar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about this gives us more of a feeling of what they over came during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dg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s were sent to camp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camps were set up like a sea of canvas 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s were separated by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ider would have to stay in a tent with up to 19 other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4343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cold in the winter, so instead of tents they stayed in log huts or heavier 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iers got to select their Company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ers had set 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um awoken them at daw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their first drill session after breakfast and roll c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solders performed guard duty if they weren't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iers cut wood for the campfires dug trenches for latrines, and cleaned up the 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4190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ot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Recruits are given uniforms and equipment at arri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were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s were gray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lucky to get the right size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iers would trade uniforms to find the best fitting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4343400" y="1600200"/>
            <a:ext cx="4572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was of poor quality, shoes were made of imitation l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s fell apart when they got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pluses of clothing supplies were scarce because one side refused to sell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238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lacked shoes and many  resulting in poo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had to march over frozen ground in either no shoes or in bar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battles soldiers took clothing off the dead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oldiers received plenty of food as they arr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included: beef or salted pork, flour, vegetables, and c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fighting, rations became scarce an soldiers went hung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343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02Z</dcterms:created>
  <dc:creator>drakedmummert</dc:creator>
  <dc:description/>
  <dc:language>en-US</dc:language>
  <cp:lastModifiedBy>drakedmummert</cp:lastModifiedBy>
  <dcterms:modified xsi:type="dcterms:W3CDTF">2009-03-20T12:14:38Z</dcterms:modified>
  <cp:revision>15</cp:revision>
  <dc:subject/>
  <dc:title>Lifestyle’s of the Civil War Soldier's </dc:title>
</cp:coreProperties>
</file>